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943E-C1A7-4747-84BF-153AD8AA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B7AD-71BF-48BC-BEC7-912CDC38B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213-4173-4C50-8693-105534E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583-221C-42A2-9EB5-36B17F7D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942-F40A-4E14-97C7-0D9618F1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0B0-9FB9-484E-908D-522DA79E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598-B168-4190-960D-1851B22F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3D1-191F-4549-9111-53FE060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30D-073A-42D6-B022-656B2F9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1A5-4114-4D05-8DFC-23C55DC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A7F-58EC-476C-81F1-CD064293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29B-DCAA-4F19-89FF-92A4F770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F90-EC6F-41DB-BFDB-70AE579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033-F3A3-41A8-89B8-81DB603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F82F-D73D-4B14-A326-86868BF12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hy Huma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ueva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ñana para pasar todo el dia juntos por favor vamos todos nosotros. Amiga a está bie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é, yo esto bien. Ellos estan en la tien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4956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á amigas pues claro y yo estoy muy bien gracias por preguntar yo estoy en la casa acostad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é tal amiga y si yo voy con ustédes. yo estoy jugando con mi hermana y si yo estoy 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é quieren jugar? Tenemos qué ir rapido. Amiga a que ahora son. Y cuantos amigas estan yendo.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 las 11:30 y Esta bien. Cual quiere cosa. Somos trés personás  Amigas mi tengo que ir adíos. Pero ellos tiene que jugar.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05120" y="1905120"/>
            <a:ext cx="502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¿Cómo están amigas y que están haciendo?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55Z</dcterms:modified>
  <cp:revision>119</cp:revision>
  <dc:subject/>
  <dc:title>Profile</dc:title>
</cp:coreProperties>
</file>